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5.jpeg" ContentType="image/jpeg"/>
  <Override PartName="/ppt/media/image4.jpeg" ContentType="image/jpeg"/>
  <Override PartName="/ppt/media/image34.jpeg" ContentType="image/jpeg"/>
  <Override PartName="/ppt/media/image35.jpeg" ContentType="image/jpeg"/>
  <Override PartName="/ppt/media/image8.jpeg" ContentType="image/jpeg"/>
  <Override PartName="/ppt/media/image10.jpeg" ContentType="image/jpeg"/>
  <Override PartName="/ppt/media/image39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B49311-7935-469A-A9A1-EA3E5A184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D6B3C1-0CAE-4B66-A1A0-9A48574ED0C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2984FB-72AA-4FBC-874C-45218F3A14D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DC9EEA-5B20-440E-9AFD-D5D307B5702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A28E3B-DF6E-4C8A-8FF5-2E817956101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F52E82-08B4-42A8-A35C-7ACDC835AB4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697875-3793-47AC-9AE6-47AADC372C2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DB1793-D0B4-43BE-AE2F-A5446C3F4B1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C5D31D-38C9-4D85-A476-3D21A1AF421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D3F4FB-3E9A-45C3-8D73-854AB32A1D6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4D50FE-90BF-48B4-B7D5-EFA14C68FDB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A6B9BB-1864-408E-94D0-CA0B02132D6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EE6052-4CC4-42E7-AEEA-6AB74CF17A3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57E49A-EE2D-4E83-986B-914A4EC79E0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026325-F189-4AC1-BD5C-8166C97474C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02497D-3959-4C6F-B2BC-D96FED17B32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5DCC21-F586-438A-8FDE-FB2592509DF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2CACC0-F9A9-436E-93BF-7153619B17F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3E88FB-D68C-44DE-BEF8-5309C9E34DC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E434DA-2F97-4942-986C-A43C8C229DF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FBAD25-8586-40EB-A8B1-D74DE881BAA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4EF462-F084-46C4-B607-2DF40055BAB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D1F6DA-7528-43DC-812B-9D4A1955D64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F816BF-F6E9-4D05-8578-3A607016AF6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861C7B-3969-4084-95C8-5587B479E32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BC0E91-BC17-475C-8239-1340FDADD58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7B1649-403A-4377-B6ED-835C24FFCD2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6768CC-3E51-4813-8487-B8B3CA772AF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B39247-C5AE-4C8C-ABF2-C97C30E2770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6F597B-D60F-4F9D-8F83-E8E6C8CA8C4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FE83C7-8CE5-4546-B7CB-0FA5B836258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5D10D0-7F17-4F8D-AB1A-8FF5AA2B264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BFEEA7-3B2E-4AE5-9763-50D64A95900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22E404-2800-4160-9A12-F449A44F50D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D18BFC-3C83-4BDC-B67A-C2BD14E7687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8048EE-85EE-452F-9D8E-3C73C6786D7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A0FA74-BC13-4CFA-AC64-E4A23464E39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8DF674-B856-431F-9A47-9DCD134AF9D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DCF3A1-7A8C-46D6-9DD8-F3CF24728EB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BFBDCA-5B89-4189-864D-3258CFEB2F8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40B3A5-17CD-4CF7-878A-D0FB44CA3BC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820DF0-FA97-4C0B-8D87-A06C911EE58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5B62A0-1142-4FB3-9C18-D395457CB64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3414C6-6EE3-4CD4-89BF-E29448B1724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95BFC7-9214-44DC-822D-9510D3DB74C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1B2730-99CE-460C-943D-DB3DF0D11FA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5EE0C2-D97C-4A99-97ED-7FD70B46F07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E16C4A-B259-4949-A5DB-A2CB17914A7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217D95-2151-49E0-84C8-B0EAB9B9916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033ACF-DB6B-4D5E-8B13-F9139EF7544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9E731D-CAD1-4E12-AA47-F43E36481BE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0B557B-786B-4514-84A9-499BB5A5713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F2C674-DD0E-49A7-96C9-AAF22966AC5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36080A-2B38-4B11-8380-DE02403B2DB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B8D2A6-768F-4543-AE52-F2D83DDDC8C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165B39-5BFC-4077-A755-27664D88451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032515-4934-4762-99F1-89922AF75AF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C0A3C-76AF-48D6-BF7B-514AB129D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DB128-BF03-4D57-8B69-A0E2CBF47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1B99-5602-4DE0-B8AE-D78818802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FA9D-A25A-4AE4-9CA8-9EDFC1BDD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4DD58-8F5C-4E15-AC7D-619D478654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C8C66-43BE-4AF5-A2FD-2A8B8C1633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8C163-3FDE-496F-B73F-3A10F6C211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BA12D-8291-4AF7-A4C4-B1CEB4E3AB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DDA95-DDEB-46A0-A546-BE2E20716B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0C3CB-EC0F-4F9A-912C-02C4D4DD38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A33AE-5BD0-4813-835D-F43439F85B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E1C81-FFD5-446B-B6F7-3D5C28C6B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856E6-5AB7-4752-9BAD-4A5D3C2369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B036D-0131-4DE0-86D1-6A3B46E6B8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1946C-EA61-4EC0-A735-EB6E446651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C64BC-29A9-45E5-A6DB-661C7F3723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8C514-73A4-44D3-BD03-7144C56B87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BC549F-7C7C-44CE-BCA7-CD5BC8FD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74A5C0-8207-4B0F-A119-2095669E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7C665B-D206-44BC-8B49-07FBBBB1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D5290C-F311-4A2D-96BA-1E5831B3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ADD8F-AD6F-4DD1-AC6D-CD16E07D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3BD5E-CAAD-4494-A8C9-2BF3449A2B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A84E35-30AB-46F7-844D-BA48585C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37F5AA-126F-415B-90B8-9A4B18B2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5B5F4C-3DC6-4B26-9D8D-97DD5B86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514A6-777E-42A8-A44F-3D5B8BC2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2055DF-640A-4FE7-9B44-E5DB6691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0D71D4-EC4D-4E02-82D2-9615220E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0D6909-76C1-4D72-8FC6-54FA9E06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36D82B-A0F4-4AA8-8259-B5E24C58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9FA154-327D-47D1-8220-89200957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A1CA3-9F13-42DE-B741-20AC0FF5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CE75-FAF6-4660-B7D2-0D1B460073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498073-CAB9-4EE3-A401-0DE62EED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02BB62-D110-4C52-A961-90B97B09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40A1DB-97A6-4AFD-93B0-F6570F98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6BF365-2ABD-4FB1-B684-DD67480F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BCF93C-0E4A-48E6-995B-B47C9C60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95AEB-4B8A-4ADE-8907-585207EE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21540B-1736-40F8-9799-48D3D0DC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18F8AA-D563-4607-A6C8-514F8F0C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57858-00F4-47D2-8578-E39918D2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87F54-CDD1-40D7-AE79-A8A039B27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F4D1F-8E03-4FDC-8629-489D2062B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4CC15-61B6-47FD-863B-69AED6190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EBB3E-A52B-4425-B43E-B29964485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7265B-C0B3-4C5F-B5AB-676F730A5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DFBC-0BDF-4488-9FBB-69B76D4C11C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54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7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3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4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E8D0-3467-4F5A-938D-E78C0839CEC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07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08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0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3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14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16FF-DCE8-45A4-91FF-983090D9C94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7EDE-1600-4277-9E94-EBC1E67ABFD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62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63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65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8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69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D1D3-8393-4C9F-A74C-459103BE4677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17A4-DC61-45F9-869F-CCB493F8A0D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4C4D-3454-4292-BFA4-F2DCF08749A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08000" y="549360"/>
            <a:ext cx="4248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Маларија/Malar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11" descr="eigencyclus"/>
          <p:cNvPicPr/>
          <p:nvPr/>
        </p:nvPicPr>
        <p:blipFill>
          <a:blip r:embed="rId1"/>
          <a:stretch/>
        </p:blipFill>
        <p:spPr>
          <a:xfrm>
            <a:off x="4356000" y="333360"/>
            <a:ext cx="46926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70C9-156B-4FED-8B61-058328DBB0E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387440" y="764280"/>
            <a:ext cx="276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68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пидем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900000" y="1916280"/>
            <a:ext cx="8244000" cy="49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о је најважнија паразитоза људ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распрострањена у 103 земљ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од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које годишње оболева око милијарду људи, а умире више од 2 милион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рбиј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ема аутохтоних случајева маларије (последњи случај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964. годин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Југославиј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), али се јављају импортовани случајев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 настанак и одржавање маларије неопходна су три фактора: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разит, преносилац и чове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ред тога, неопходни су и други фактори: атмосферски, климатски,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еренски, 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ја је најраспрострањенија у тропским и суптропским крајевим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где има ендемско-епидемијски карактер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9A50-4233-4B72-A1F6-B6CDA043A29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6" descr="malaria_risk_2003"/>
          <p:cNvPicPr/>
          <p:nvPr/>
        </p:nvPicPr>
        <p:blipFill>
          <a:blip r:embed="rId1"/>
          <a:stretch/>
        </p:blipFill>
        <p:spPr>
          <a:xfrm>
            <a:off x="539640" y="1125360"/>
            <a:ext cx="8280360" cy="5112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858240" y="40464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Географска дистрибуција малар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4828-E6E2-4EE4-8883-BEED37D38CA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Picture 8" descr="picendem"/>
          <p:cNvPicPr/>
          <p:nvPr/>
        </p:nvPicPr>
        <p:blipFill>
          <a:blip r:embed="rId1"/>
          <a:stretch/>
        </p:blipFill>
        <p:spPr>
          <a:xfrm>
            <a:off x="2916360" y="907920"/>
            <a:ext cx="52099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58D0-1B1C-4CCD-B5F6-8B17E25FEB3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403280" y="764280"/>
            <a:ext cx="2228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Патогене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971640" y="1844640"/>
            <a:ext cx="8064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тогенеза болести поклапа се са асексуалним циклусом развој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разита у чове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сновни патогенетски механизм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емолиза еритроцит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оксично оштећење различитих тки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слобађање цитокина (TNF-</a:t>
            </a: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INF-</a:t>
            </a: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...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итоадхеренција и феномен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“розета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кроваскуларне (капиларне) оклузије у различитим орган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1438-F3F9-4799-96AF-5F19FBF6CC1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332000" y="549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692360" y="2060640"/>
            <a:ext cx="60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Инкубација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10-12 дана (8-23 да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210000"/>
              </a:lnSpc>
              <a:buClr>
                <a:srgbClr val="ffff00"/>
              </a:buClr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Стадијум примарних маларичних нап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210000"/>
              </a:lnSpc>
              <a:buClr>
                <a:srgbClr val="ffff00"/>
              </a:buClr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Стадијум латен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210000"/>
              </a:lnSpc>
              <a:buClr>
                <a:srgbClr val="ffff00"/>
              </a:buClr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Стадијум рециди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BCF3-C964-4441-AA59-F09F1C1F282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258920" y="47628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 СТАДИЈУМ ПРИМАРНИХ МАЛАРИЧНИХ НАПА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900000" y="981000"/>
            <a:ext cx="824400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нвазивни стадијум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 температура до 40ºC, главобоља, малаксалост, болови у мишићима, 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чни напади пролазе кроз три стадијума: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дрхтавиц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хиперпирексиј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презнојавања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ларичн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апади трају 5-10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маларије терцијане и овале маларични напади се понављају сваких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48 часова, код маларије квартане на свака 72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код маларије тропик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ваких 24-48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нелечене маларије терцијане и овале маларични напади се понављај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оком 2-4 недеље, код маларије квартане током 1-2 месеца, а зати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понтано престај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а сваким новим ма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ричним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ападом анемија прогредира, слезина се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ве виш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већава, болесници се све више исцрпљуј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E410-E161-4BF5-AC44-64180CC4F40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900000" y="620640"/>
            <a:ext cx="82440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У клиничко-лабораторијске знаке тешке маларије убрајају с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исока паразитемија (&gt;5% инфицираних еритроцит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иперпирексија (телесна температура &gt; 40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Знаци афекције нервног система (“церебрална маларија”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немија (хематокрит &lt; 20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емећај гликорегулације (хипогликемија &lt; 2,2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mol/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Спонтана крварењ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цидоза (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&lt; 7,25; бикарбонати &lt; 15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mol/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убрежна инсуфицијенција (креатинин &gt; 265 </a:t>
            </a:r>
            <a:r>
              <a:rPr b="0" i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ol/l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иуреза &lt; 400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ипербилирубинемија (билирубин &gt; 50 </a:t>
            </a:r>
            <a:r>
              <a:rPr b="0" i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ol/l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ардиоваскуларни колап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фекције плућа и/или плућни еде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олив и/или повраћање (што отежава оралну примену леков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C42A-1673-4E54-A591-3DC72F1083A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548360" y="83664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I ПЕРИОД ЛАТЕН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971640" y="2060640"/>
            <a:ext cx="8172360" cy="46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лечених болесника настаје услед уништења еритроцитне фазе 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звоју паразита, а код нелечених због развоја делимичног имуните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 овом периоду нема субјективних тегоба, у објективном налаз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оминира спленомегал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иод латенције код маларије тропике је кратак (1-6 недеља), док код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. терцијане и м. овале може да траје више недеља до више месец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1F15-1308-4AFD-B74C-03FB59FD5B6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551240" y="83664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II СТАДИЈУМ РЕЦИДИ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900000" y="1916280"/>
            <a:ext cx="813600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цидиви могу бити рани и кас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ни рецидиви могу да се јав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свих облика маларије; касни рецидиви, такође код свих осим м. тропик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цидиви се клинички презентују типичним маларичним нападима, који с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иодично понављају у одре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ном временском интервалу; једина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злика је што временом маларични напади у рецидиву постају блажи, а период између појединих рецидива све већ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м. терцијане, м. квартане и м. овале рецидиви настају због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гзоеритроцитне фазе у развоју паразита, а код м. тропике због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државања еритроцитне фаз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39B8-2066-43C4-AAA9-56D84D0A0D0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299960" y="765000"/>
            <a:ext cx="41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мпликације малариј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403280" y="2133720"/>
            <a:ext cx="482436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уптура слезине или торз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бачај или превремени порођај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рномокраћна грозни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B544-FC5E-4752-A900-EE9502D50FE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042920" y="1989000"/>
            <a:ext cx="763272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Људски род 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има три велика непријатеља: грозницу, глад и рат; убедљиво највећа, убедљиво најстрашнија од њих је грозница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William Os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E5ED-59E2-46DF-8A85-8BEC153C6EF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403280" y="692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403280" y="2133720"/>
            <a:ext cx="6985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ичк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слик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пидемиолошки подац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аборатор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јск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анализ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брзана S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ормоцитна, нормохромна анем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ормалан број леукоцита (ретко леукоцитоз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ромбоцитопен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ко повишена активност трансамин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9B85-5BEB-483C-8117-C0A23C118AC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187280" y="836640"/>
            <a:ext cx="7201080" cy="49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Егзактна дијагноза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ентификациј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плазмодијума у крви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размаз или густа кап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Детекција паразитног антигена (флуоресцентна микроскоп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еролошке анализ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C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Picture 5" descr="malaria82"/>
          <p:cNvPicPr/>
          <p:nvPr/>
        </p:nvPicPr>
        <p:blipFill>
          <a:blip r:embed="rId1"/>
          <a:stretch/>
        </p:blipFill>
        <p:spPr>
          <a:xfrm>
            <a:off x="6156360" y="1341360"/>
            <a:ext cx="216072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E87B-B33B-470F-9532-3C1B4CB015C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193400" y="3333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826920" y="1484280"/>
            <a:ext cx="77774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сновни циљ лечења је прекид акутног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чног напада и превенција рециди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анас располажемо великим бројем антималаричних средстава која делују на различите развојне облике плазмодију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84360" y="3573360"/>
          <a:ext cx="8137440" cy="2857680"/>
        </p:xfrm>
        <a:graphic>
          <a:graphicData uri="http://schemas.openxmlformats.org/drawingml/2006/table">
            <a:tbl>
              <a:tblPr/>
              <a:tblGrid>
                <a:gridCol w="2735280"/>
                <a:gridCol w="54021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нолонски дерив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in, kinidin, hlorokin, meflokin, halofantrin, primak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темизински дерив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emizinin, artemetar, artesun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ифол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rimetamin, proguanil, hlorproguanil, trimetop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ибактеријски лек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traciklini, klindamicin, makrolidi, sulfonamid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восинтетисани нафтакинонски лек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ovak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301" name="Picture 99" descr="vol5-38p1-303-00"/>
          <p:cNvPicPr/>
          <p:nvPr/>
        </p:nvPicPr>
        <p:blipFill>
          <a:blip r:embed="rId1"/>
          <a:stretch/>
        </p:blipFill>
        <p:spPr>
          <a:xfrm>
            <a:off x="6300720" y="476280"/>
            <a:ext cx="264312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066320" y="8571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Хемиопрофилакса малар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Антималаричну профилаксу треба узимати 2 недеље пре одласка, за време боравка и 4 недеље по повратку из ендемичних краје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ЗОНА А (ендемска подручја у којима су плазмодијуми осетлљиви на хлороки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CHLOROQUIN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, таблете 300 mg, једна тбл.недељно, деца: 5 mg/кg телесне мас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Контраиндикације: преосетљивост на хлорокин, епилепсија, псориј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74BD-9F80-45CD-9C1A-3B78E027100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ЗОНА Б (ендемска подручја у којима постоји резистенција плазмодијума на хлорокин)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Calibri"/>
              </a:rPr>
              <a:t>CHLOROQUINE + PROGUANI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, 100 mg 200 m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Једна комбинована таблета днев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Контраиндикације: преосетљивост на хлорокин и/или п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  <a:ea typeface="Calibri"/>
              </a:rPr>
              <a:t>рогуан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л, инсуфиијенција јетре и бубрега, епилепсија, псориј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Величина таблете није адекватна за особе са телесном тежином мањом од 50 к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Узимати 1 дан пре одласка, све време боравка и 4 недеље након повратка из маларичног подруч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ЗОНА Ц (ендемска подручја у којима постоји висока резистенција plаzmоdiјum fаlcipаrumа на хлороки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Calibri"/>
              </a:rPr>
              <a:t>MEFLOQUINE (Lariam)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таблете од 250 mg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јеdnа tаblеtа nеdеljn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Деца: 5 mg/кg телесне масе недељ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E4AA-1197-49E2-9B96-934F8C79EE9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66320" y="713880"/>
            <a:ext cx="7543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Контраиндикације: тел.тежина испод 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g, 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трудноћа, преосетљивост на мефлокин, неуропсихијатријски поремећаји (укључујући депресију), епилепсија, конвулзије, терапија мефлокином у претходне 4 недеље, не препоручује се особама чије занимање захтева фину координацију покрета и просторну оријентацију (пилоти, возачи...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Напомена: не узимати мефлокин унутар 12 сати од примене кинина и унутар 3 дана од апликације живих бактеријских вакцина (вакцина против трбушног тифуса и колер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Ампицилин и тетрациклин, уколико се примењују истовремено, могу повећати ниво мефлокина у кр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BC7D-3374-4BD6-8E07-0A36CF99A25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4586-E575-49D7-9BE9-BD9F3A6D25A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66680" y="857160"/>
            <a:ext cx="752472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Calibri"/>
              </a:rPr>
              <a:t>ATOVAQUONE + PROGUANIL (Malaron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), 250 mg 100 mg, једна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комбинована таблета днев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Контраиндикације: осетљивост на састојке лека, тешка бубрежна инсифицијенција, телесна тежина мања од 11 к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Истовремена употреба рифампицина, рифабутина, метоклопрамида и тетрациклина, доводи до смањења концентрације маларона у плаз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Узимати 1 дан пре поласка, све време боравка и 7 дана након повратка из маларичног подруч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066320" y="928440"/>
            <a:ext cx="75438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Calibri"/>
              </a:rPr>
              <a:t>DOXYCYCLI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, таблете од 100 mg, једна таблета днев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Контраиндикације: трудноћа и дојење, млађи од 8 година, преосетљивост на тетрациклине, дисфункција јет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Напомена: доксициклин повећава осетљивост коже на сунчеву светлост, па особе са осетљивом кожом треба да користе УВА заштиту и избегавају директно излагање сунчевој светл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Узимати 1 дан пре одласка, све време боравка и 4 недеље по повратку из маларичног подруч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У случају да нисте у могућности да набавите препоручене лекове, као и за све друге информације везане за врсту и начин употребе антималаричних лекова, обратите се здравственој служби земље у којој се налазит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DF03-BFE1-46BA-A8D3-34A81B53154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C4D5-A494-4A35-8923-4ACF93C17AC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3" name="Picture 5" descr="MalariaMap"/>
          <p:cNvPicPr/>
          <p:nvPr/>
        </p:nvPicPr>
        <p:blipFill>
          <a:blip r:embed="rId1"/>
          <a:stretch/>
        </p:blipFill>
        <p:spPr>
          <a:xfrm>
            <a:off x="1187280" y="765000"/>
            <a:ext cx="7344000" cy="540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6786-8244-4D30-A15A-1EC3DE2ED27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179280" y="404640"/>
            <a:ext cx="5329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Амебијаза/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Amoebia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Picture 6" descr="Mikroorganismen"/>
          <p:cNvPicPr/>
          <p:nvPr/>
        </p:nvPicPr>
        <p:blipFill>
          <a:blip r:embed="rId1"/>
          <a:stretch/>
        </p:blipFill>
        <p:spPr>
          <a:xfrm>
            <a:off x="5508720" y="1557360"/>
            <a:ext cx="34430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A13E-6B9D-43DF-B9E5-FB9B740CF13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547640" y="620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ефинициј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187280" y="1989000"/>
            <a:ext cx="7129800" cy="14925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Маларија је заразно обољење које изазивају четири врсте паразита из рода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Plasmodium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, а преносе је убодом комарци из рода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Anopheles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258920" y="4221000"/>
            <a:ext cx="734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инички се болест карактерише маларичним нападима (периодични напади грознице), анемијом и спленомегалијо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921F-1285-44F4-AB09-7DDE5779660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438920" y="77796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332000" y="2565360"/>
            <a:ext cx="7200720" cy="2151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Амебијаза означава инфестацију организма протозоом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Entamoeba histolytica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 која се клинички испољава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широким спектром – од асимптоматске, преко амебног колитиса до инвазивних облика са стварањем апсцеса, пре свега у јет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F0CB-CF42-4F1C-8ABA-3D5052A2E89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1403280" y="765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971640" y="1989000"/>
            <a:ext cx="792144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нта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ба хистолyт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ц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 је примарно паразит дебелог цре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јављује се у 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тр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истични обли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прелазна форма (мину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истол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и облик (трофозоит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рофозит је патогени облик паразита (продукује протеолитичке ензим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672B-845E-4DEE-A152-5655C1F43E1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4" name="Picture 4" descr="ehistolytica2"/>
          <p:cNvPicPr/>
          <p:nvPr/>
        </p:nvPicPr>
        <p:blipFill>
          <a:blip r:embed="rId1"/>
          <a:stretch/>
        </p:blipFill>
        <p:spPr>
          <a:xfrm>
            <a:off x="1258920" y="1268280"/>
            <a:ext cx="2390760" cy="2467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enta3"/>
          <p:cNvPicPr/>
          <p:nvPr/>
        </p:nvPicPr>
        <p:blipFill>
          <a:blip r:embed="rId2"/>
          <a:stretch/>
        </p:blipFill>
        <p:spPr>
          <a:xfrm>
            <a:off x="4572000" y="1268280"/>
            <a:ext cx="3170160" cy="2400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enta6"/>
          <p:cNvPicPr/>
          <p:nvPr/>
        </p:nvPicPr>
        <p:blipFill>
          <a:blip r:embed="rId3"/>
          <a:stretch/>
        </p:blipFill>
        <p:spPr>
          <a:xfrm>
            <a:off x="2843280" y="3933720"/>
            <a:ext cx="3527280" cy="22687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1181880" y="476280"/>
            <a:ext cx="44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Цистични облик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Entamoebe histolytic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01E4-584F-420F-9EC5-8829E4ADC5E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Picture 4" descr="E_histol_troph_drawA"/>
          <p:cNvPicPr/>
          <p:nvPr/>
        </p:nvPicPr>
        <p:blipFill>
          <a:blip r:embed="rId1"/>
          <a:srcRect l="8873" t="0" r="11118" b="0"/>
          <a:stretch/>
        </p:blipFill>
        <p:spPr>
          <a:xfrm>
            <a:off x="1042920" y="1700280"/>
            <a:ext cx="2708280" cy="3384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E_histol_troph_C"/>
          <p:cNvPicPr/>
          <p:nvPr/>
        </p:nvPicPr>
        <p:blipFill>
          <a:blip r:embed="rId2"/>
          <a:stretch/>
        </p:blipFill>
        <p:spPr>
          <a:xfrm>
            <a:off x="6732720" y="1700280"/>
            <a:ext cx="2079360" cy="3384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E_histol_troph_D"/>
          <p:cNvPicPr/>
          <p:nvPr/>
        </p:nvPicPr>
        <p:blipFill>
          <a:blip r:embed="rId3"/>
          <a:stretch/>
        </p:blipFill>
        <p:spPr>
          <a:xfrm>
            <a:off x="4067280" y="1700280"/>
            <a:ext cx="2376360" cy="33843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7"/>
          <p:cNvSpPr/>
          <p:nvPr/>
        </p:nvSpPr>
        <p:spPr>
          <a:xfrm>
            <a:off x="1404000" y="836640"/>
            <a:ext cx="35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Хистолитички облик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trofozoit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1DF8-FA15-4DCD-846E-473B6FFB2AB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090800" y="18900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971640" y="692280"/>
            <a:ext cx="7272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свету има око 500 милиона особа инфестираних амеб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ијаза је космополитско обољење, али је најзаступљенија у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ропским и суптропским крајеви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6" name="Picture 6" descr="amoebiasis1"/>
          <p:cNvPicPr/>
          <p:nvPr/>
        </p:nvPicPr>
        <p:blipFill>
          <a:blip r:embed="rId1"/>
          <a:stretch/>
        </p:blipFill>
        <p:spPr>
          <a:xfrm>
            <a:off x="971640" y="1844640"/>
            <a:ext cx="7345440" cy="36972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7"/>
          <p:cNvSpPr/>
          <p:nvPr/>
        </p:nvSpPr>
        <p:spPr>
          <a:xfrm>
            <a:off x="1042920" y="566100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бијаза је типична фекално-орална инфекциј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вор инфекције су болесник или амебоноша који столицом излучују цисте у спољну средину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овек се инфицира уношењем циста у органозму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љаве руке, вода, хран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B592-5949-478A-B5E1-8C40AE64BC7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1187280" y="18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4788000" y="549360"/>
            <a:ext cx="4176720" cy="70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исте након ингестије, пролазе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желудац и танко црево, доспевају у дебело црево где под повољним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словима прелазе у трофозоит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хваљујући својим протеолитичким ферментим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цистеин-протеазе)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могу да продру кроз цревну слуз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ицу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у субмукози изазивају некротично-инфламаторне промене, што 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рајњој инстанци резултира стварање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лцерациј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езије код амебијазе обично с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окализоване на цекуму и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сцедентном колону, али су често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хваћени и ректум и сигм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ђе, трофозоити могу да продру и у крвне судове (цревног зида) и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ртним крвотоком у јетру, где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формирају амебне 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цес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Picture 7" descr="image006"/>
          <p:cNvPicPr/>
          <p:nvPr/>
        </p:nvPicPr>
        <p:blipFill>
          <a:blip r:embed="rId1"/>
          <a:stretch/>
        </p:blipFill>
        <p:spPr>
          <a:xfrm>
            <a:off x="250920" y="765000"/>
            <a:ext cx="446724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7FDB-546F-489A-BEF0-06E0824B91C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3" name="Picture 4" descr="entah1"/>
          <p:cNvPicPr/>
          <p:nvPr/>
        </p:nvPicPr>
        <p:blipFill>
          <a:blip r:embed="rId1"/>
          <a:stretch/>
        </p:blipFill>
        <p:spPr>
          <a:xfrm>
            <a:off x="1692360" y="1413000"/>
            <a:ext cx="626436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D8DA-1D77-43F8-8895-34E20DE671D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1332000" y="54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линичка сли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258920" y="2060640"/>
            <a:ext cx="70563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Инкубација код амебијазе је варијабилн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ијаза клинички може да се манифестује у више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симптоматск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кутна интестинална амебијаза (амебна дизентерија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ронична интестиналн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кстраинтестиналн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6FF6-BC60-4E23-A62D-59EDD65EB16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187280" y="62064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АКУТНА ИНТЕСТИНАЛНА АМЕБИЈАЗА (АМЕБНА ДИЗЕНТЕРИЈА)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042920" y="2060640"/>
            <a:ext cx="7921800" cy="40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тка у нашем поднебљ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Симптом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 болови у трбуху, учестале слузаво-крваве столице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"ректални испљувак"), тенезни и лажни позиви на столиц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 разлику од бациларне дизентерије, код амебне дизентерије нису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јаче испољени знаци фебрилности, дехридације и интоксикације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015E-6C30-4945-AFF7-9BF061FF513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332000" y="5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ом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п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ликациј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900000" y="1916280"/>
            <a:ext cx="813600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форација са последичним перитонитисо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тено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оми (хроничне грануломатозне пролиферације у цревном зиду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р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ње (најчешћ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но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кстраинтестинална амебијаза (хепатитич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, церебрална, перитонеална, ...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EE88-777D-4A5C-B728-CAD714357DF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258920" y="188280"/>
            <a:ext cx="216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7" descr="P_malariae_schizont4"/>
          <p:cNvPicPr/>
          <p:nvPr/>
        </p:nvPicPr>
        <p:blipFill>
          <a:blip r:embed="rId1"/>
          <a:srcRect l="0" t="14399" r="0" b="0"/>
          <a:stretch/>
        </p:blipFill>
        <p:spPr>
          <a:xfrm>
            <a:off x="5940360" y="1052640"/>
            <a:ext cx="2160720" cy="16542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5747400" y="285264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malaria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kvart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10" descr="Plasmodium_vivax"/>
          <p:cNvPicPr/>
          <p:nvPr/>
        </p:nvPicPr>
        <p:blipFill>
          <a:blip r:embed="rId2"/>
          <a:stretch/>
        </p:blipFill>
        <p:spPr>
          <a:xfrm>
            <a:off x="1763640" y="1052640"/>
            <a:ext cx="2163960" cy="1697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1"/>
          <p:cNvSpPr/>
          <p:nvPr/>
        </p:nvSpPr>
        <p:spPr>
          <a:xfrm>
            <a:off x="1646640" y="2924280"/>
            <a:ext cx="25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vivax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terci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13" descr="ovale"/>
          <p:cNvPicPr/>
          <p:nvPr/>
        </p:nvPicPr>
        <p:blipFill>
          <a:blip r:embed="rId3"/>
          <a:srcRect l="0" t="3055" r="0" b="13823"/>
          <a:stretch/>
        </p:blipFill>
        <p:spPr>
          <a:xfrm>
            <a:off x="1835280" y="3860640"/>
            <a:ext cx="2158920" cy="17272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4"/>
          <p:cNvSpPr/>
          <p:nvPr/>
        </p:nvSpPr>
        <p:spPr>
          <a:xfrm>
            <a:off x="1795320" y="5661000"/>
            <a:ext cx="22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oval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ov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Picture 16" descr="winzeler02"/>
          <p:cNvPicPr/>
          <p:nvPr/>
        </p:nvPicPr>
        <p:blipFill>
          <a:blip r:embed="rId4"/>
          <a:srcRect l="18430" t="18250" r="7787" b="0"/>
          <a:stretch/>
        </p:blipFill>
        <p:spPr>
          <a:xfrm>
            <a:off x="5940360" y="3860640"/>
            <a:ext cx="2160720" cy="17290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5753160" y="5661000"/>
            <a:ext cx="26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falciparum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tropi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5A4D-B949-40AF-8022-12497B7B7FA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187280" y="54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071720" y="1785960"/>
            <a:ext cx="7777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иничка слик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икробиолошка испитивањ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иректан микроскопски преглед препарата столиц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ултивисање столице на Leffler-Симићевој подлоз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еролошке реакције (RVK, RIH, ELISA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олекуларна метода (PC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ктоскопски преглед са биопсијом слузнице (ради хистолошког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регледа слузнице на трофозоите!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412C-97A9-4AE0-84CA-3D4F960066D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1116000" y="476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Терап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094040" y="126756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99"/>
                </a:solidFill>
                <a:latin typeface="Tahoma"/>
              </a:rPr>
              <a:t>Подела амебицида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16000" y="2205000"/>
          <a:ext cx="7632720" cy="3095640"/>
        </p:xfrm>
        <a:graphic>
          <a:graphicData uri="http://schemas.openxmlformats.org/drawingml/2006/table">
            <a:tbl>
              <a:tblPr/>
              <a:tblGrid>
                <a:gridCol w="3392640"/>
                <a:gridCol w="424008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Луменалн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oksanid furoat, klefamid, paromomicin, teklozan, etofamid, dijodohidroksikvinolin, nitazoksanid, t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ikli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кивни или системск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etin, dihidroemetin, hlorokin, miltefosin, derivati arsena (karbazon i milib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шан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nitroimidazoli (metronidazol, ornidazol, tinidazo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2A64-E9CA-4BD8-A0CD-4695FF3D51D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971640" y="1844640"/>
            <a:ext cx="7848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симптоматски носиоци (луменални агенс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Јодокин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650 mg таб.) – доза: 3×650 mg/дан, 20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Паромомицин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500 mg/дан, 10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кутни колити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Метро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750 mg/дан, 10 дан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+ луменални аген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мебни апсцес јет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Један од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Метро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750 mg/дан, 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Ти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– доза: 2gr/дан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Ор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– доза: 2gr/дан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5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+ луменални аген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2" name="Picture 5" descr="images1"/>
          <p:cNvPicPr/>
          <p:nvPr/>
        </p:nvPicPr>
        <p:blipFill>
          <a:blip r:embed="rId1"/>
          <a:stretch/>
        </p:blipFill>
        <p:spPr>
          <a:xfrm>
            <a:off x="6372360" y="189000"/>
            <a:ext cx="2457360" cy="18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BA56-0CB1-44FF-A185-1B929BF726F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900000" y="333360"/>
            <a:ext cx="7344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 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Лај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шманијаза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Leishmania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Picture 5" descr="img026"/>
          <p:cNvPicPr/>
          <p:nvPr/>
        </p:nvPicPr>
        <p:blipFill>
          <a:blip r:embed="rId1"/>
          <a:srcRect l="16926" t="27953" r="9845" b="5906"/>
          <a:stretch/>
        </p:blipFill>
        <p:spPr>
          <a:xfrm>
            <a:off x="1979640" y="2565360"/>
            <a:ext cx="568944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C06E-9DAF-43B7-BC93-795A8311A84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042920" y="2205000"/>
            <a:ext cx="7850160" cy="284148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аза је хронично инфективно обољење које изазивају паразити из рода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eishmania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, а преносе инсекти из рода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Phlebotomus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линички се јавља у три облика: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висцерал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кож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мукозал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бли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40328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D4F4-094D-4162-BCCD-B85A1DD4158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476360" y="1125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042920" y="2276640"/>
            <a:ext cx="7993080" cy="35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е (род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Leishmania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фамилија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Trypanosomatidae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ласа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Mastigophora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ло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Protozoa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исцералну лајшманијазу изазивају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donovani, L. infantum i L. shagasi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утану лајшманијазу у </a:t>
            </a:r>
            <a:r>
              <a:rPr b="0" lang="sr-CS" sz="1800" spc="-1" strike="noStrike" u="sng">
                <a:solidFill>
                  <a:srgbClr val="ffffff"/>
                </a:solidFill>
                <a:uFillTx/>
                <a:latin typeface="Tahoma"/>
              </a:rPr>
              <a:t>старом свету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изазивају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tropica, L. infantum, L. major, L. eatiopic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утану и мукозалну лајшманијазу у </a:t>
            </a:r>
            <a:r>
              <a:rPr b="0" lang="sr-CS" sz="1800" spc="-1" strike="noStrike" u="sng">
                <a:solidFill>
                  <a:srgbClr val="ffffff"/>
                </a:solidFill>
                <a:uFillTx/>
                <a:latin typeface="Tahoma"/>
              </a:rPr>
              <a:t>новом свету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изазивају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mexicana, L. braziliensis, L. peruvana, L. guyanensis, L. amazonensis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87DB-35D8-4CFE-8376-AE9DD57ABAE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1187280" y="333360"/>
            <a:ext cx="614052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јшманије се јављају у два морфолошка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promastigot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(leptomonans)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mastigot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221840" y="191628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Promastig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5" name="Picture 6" descr="img008"/>
          <p:cNvPicPr/>
          <p:nvPr/>
        </p:nvPicPr>
        <p:blipFill>
          <a:blip r:embed="rId1"/>
          <a:srcRect l="19300" t="32677" r="11014" b="7465"/>
          <a:stretch/>
        </p:blipFill>
        <p:spPr>
          <a:xfrm>
            <a:off x="539640" y="2847960"/>
            <a:ext cx="4032360" cy="2597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Ldon_trypomastigotes_Despo"/>
          <p:cNvPicPr/>
          <p:nvPr/>
        </p:nvPicPr>
        <p:blipFill>
          <a:blip r:embed="rId2"/>
          <a:stretch/>
        </p:blipFill>
        <p:spPr>
          <a:xfrm>
            <a:off x="5003640" y="2852640"/>
            <a:ext cx="3816360" cy="25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D324-2555-4C90-B708-5F871C2ED2D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1362600" y="7650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Amastig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9" name="Picture 5" descr="Ldono_Zaiman-amastigot"/>
          <p:cNvPicPr/>
          <p:nvPr/>
        </p:nvPicPr>
        <p:blipFill>
          <a:blip r:embed="rId1"/>
          <a:stretch/>
        </p:blipFill>
        <p:spPr>
          <a:xfrm>
            <a:off x="5076720" y="2133720"/>
            <a:ext cx="3832200" cy="2554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Leishmaniasis-tropica,-amastigot"/>
          <p:cNvPicPr/>
          <p:nvPr/>
        </p:nvPicPr>
        <p:blipFill>
          <a:blip r:embed="rId2"/>
          <a:stretch/>
        </p:blipFill>
        <p:spPr>
          <a:xfrm>
            <a:off x="900000" y="2133720"/>
            <a:ext cx="396108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985A-3DD7-4714-9B92-C3AB3E97751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285920" y="4287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928800" y="1428840"/>
            <a:ext cx="799308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зервоар инфекције су човек и разне врсте домаћих и дивљих животињ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најчешће преносе убодом инсекти из род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Phlebotomus,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ђе се може пренети трансфузијом крви и сексуалним контакт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4" name="Picture 6" descr="Flies"/>
          <p:cNvPicPr/>
          <p:nvPr/>
        </p:nvPicPr>
        <p:blipFill>
          <a:blip r:embed="rId1"/>
          <a:stretch/>
        </p:blipFill>
        <p:spPr>
          <a:xfrm>
            <a:off x="1258920" y="3716280"/>
            <a:ext cx="3240000" cy="2492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leish0705f1"/>
          <p:cNvPicPr/>
          <p:nvPr/>
        </p:nvPicPr>
        <p:blipFill>
          <a:blip r:embed="rId2"/>
          <a:srcRect l="9029" t="9712" r="3994" b="16238"/>
          <a:stretch/>
        </p:blipFill>
        <p:spPr>
          <a:xfrm>
            <a:off x="5003640" y="3716280"/>
            <a:ext cx="32403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14C6-8B33-4094-84CF-71FB35610C9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971640" y="260280"/>
            <a:ext cx="8028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аза се најчешче јавља у тропским земљама Азије, Африке и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Јужне Америке, у Европи углавном око Средоземног мо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Picture 5" descr="world_map-dobra"/>
          <p:cNvPicPr/>
          <p:nvPr/>
        </p:nvPicPr>
        <p:blipFill>
          <a:blip r:embed="rId1"/>
          <a:stretch/>
        </p:blipFill>
        <p:spPr>
          <a:xfrm>
            <a:off x="1763640" y="148428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3844-50D2-4058-B99B-A83061464D1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Picture 4" descr="agambiae"/>
          <p:cNvPicPr/>
          <p:nvPr/>
        </p:nvPicPr>
        <p:blipFill>
          <a:blip r:embed="rId1"/>
          <a:stretch/>
        </p:blipFill>
        <p:spPr>
          <a:xfrm>
            <a:off x="1403280" y="1413000"/>
            <a:ext cx="3024360" cy="1973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malaria3"/>
          <p:cNvPicPr/>
          <p:nvPr/>
        </p:nvPicPr>
        <p:blipFill>
          <a:blip r:embed="rId2"/>
          <a:stretch/>
        </p:blipFill>
        <p:spPr>
          <a:xfrm>
            <a:off x="5508720" y="3933720"/>
            <a:ext cx="3240000" cy="218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thumb-malaria_special"/>
          <p:cNvPicPr/>
          <p:nvPr/>
        </p:nvPicPr>
        <p:blipFill>
          <a:blip r:embed="rId3"/>
          <a:srcRect l="6557" t="0" r="9638" b="0"/>
          <a:stretch/>
        </p:blipFill>
        <p:spPr>
          <a:xfrm>
            <a:off x="1187280" y="3860640"/>
            <a:ext cx="367200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osquito2"/>
          <p:cNvPicPr/>
          <p:nvPr/>
        </p:nvPicPr>
        <p:blipFill>
          <a:blip r:embed="rId4"/>
          <a:stretch/>
        </p:blipFill>
        <p:spPr>
          <a:xfrm>
            <a:off x="5651640" y="1341360"/>
            <a:ext cx="2736720" cy="20210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0"/>
          <p:cNvSpPr/>
          <p:nvPr/>
        </p:nvSpPr>
        <p:spPr>
          <a:xfrm>
            <a:off x="1638720" y="54936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Anophe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586C-29A7-4FEA-992B-D3D2B9B72B7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1042920" y="54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042920" y="1125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hlebotomine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promastigot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RES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amastigot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RES (лимфне жлезде, слезина, јетра, костна срж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6" descr="leish0705f2"/>
          <p:cNvPicPr/>
          <p:nvPr/>
        </p:nvPicPr>
        <p:blipFill>
          <a:blip r:embed="rId1"/>
          <a:srcRect l="4641" t="12567" r="4646" b="11332"/>
          <a:stretch/>
        </p:blipFill>
        <p:spPr>
          <a:xfrm>
            <a:off x="1547640" y="1916280"/>
            <a:ext cx="676944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9483-CA4D-4F57-9B25-AD0C88B6249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1162440" y="62064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1692360" y="2205000"/>
            <a:ext cx="5759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олест се испољава у три клиничка облика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висцерални,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кож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мукозал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65E8-17B5-4619-A49D-BC8B50DBC39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116000" y="981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Висцерална лајшманијаза (Kala Azar)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116000" y="2133720"/>
            <a:ext cx="777708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 варира од 3 дана до 8 месец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очиње постепено: повишена температура, знојење,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губитак апетита, малаксалост, мршављењ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изикални налаз: бледило коже и слузница, лимафаденопатија, спленомегалија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епатомегалија, интерстицијска пнеумонија, хеморагијски синдр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елечена висцерална лајшманијаза се завршава смрћу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E085-F426-4D77-B5A2-25EA215CA3F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img026"/>
          <p:cNvPicPr/>
          <p:nvPr/>
        </p:nvPicPr>
        <p:blipFill>
          <a:blip r:embed="rId1"/>
          <a:srcRect l="16926" t="27953" r="11014" b="5906"/>
          <a:stretch/>
        </p:blipFill>
        <p:spPr>
          <a:xfrm>
            <a:off x="539640" y="1773360"/>
            <a:ext cx="5688000" cy="3916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KalaAzar_Zaiman"/>
          <p:cNvPicPr/>
          <p:nvPr/>
        </p:nvPicPr>
        <p:blipFill>
          <a:blip r:embed="rId2"/>
          <a:srcRect l="17670" t="0" r="22157" b="0"/>
          <a:stretch/>
        </p:blipFill>
        <p:spPr>
          <a:xfrm>
            <a:off x="6443640" y="333360"/>
            <a:ext cx="2449440" cy="61088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"/>
          <p:cNvSpPr/>
          <p:nvPr/>
        </p:nvSpPr>
        <p:spPr>
          <a:xfrm>
            <a:off x="1470240" y="83664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Kala Az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D93C-2B98-4A99-90AB-977BD7722FD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187280" y="90792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Кожна лајшманијаза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042920" y="1773360"/>
            <a:ext cx="7848720" cy="36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20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кубација варира од 2 недеље до неколико месец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омене се јављају на откривеним деловима тела: на месту убода се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ајпре јавља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макула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ја брзо прелази 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апул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 ова 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откожни чворић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ји може да се одржава месецима и да спонтано ишчезне или егзулцерише 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безболна улцерација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20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жне промене прати регионални лимафаденити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DF4F-30C2-4A3F-8A51-37D40FA2685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Picture 4" descr="1455_f1"/>
          <p:cNvPicPr/>
          <p:nvPr/>
        </p:nvPicPr>
        <p:blipFill>
          <a:blip r:embed="rId1"/>
          <a:stretch/>
        </p:blipFill>
        <p:spPr>
          <a:xfrm>
            <a:off x="1332000" y="1004760"/>
            <a:ext cx="3311280" cy="25434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leishmaniasis"/>
          <p:cNvPicPr/>
          <p:nvPr/>
        </p:nvPicPr>
        <p:blipFill>
          <a:blip r:embed="rId2"/>
          <a:stretch/>
        </p:blipFill>
        <p:spPr>
          <a:xfrm>
            <a:off x="5076720" y="1039680"/>
            <a:ext cx="273528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hand"/>
          <p:cNvPicPr/>
          <p:nvPr/>
        </p:nvPicPr>
        <p:blipFill>
          <a:blip r:embed="rId3"/>
          <a:stretch/>
        </p:blipFill>
        <p:spPr>
          <a:xfrm>
            <a:off x="1692360" y="3860640"/>
            <a:ext cx="2592360" cy="2349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img041"/>
          <p:cNvPicPr/>
          <p:nvPr/>
        </p:nvPicPr>
        <p:blipFill>
          <a:blip r:embed="rId4"/>
          <a:srcRect l="15756" t="26394" r="7477" b="5906"/>
          <a:stretch/>
        </p:blipFill>
        <p:spPr>
          <a:xfrm>
            <a:off x="4788000" y="3860640"/>
            <a:ext cx="3600360" cy="23814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8"/>
          <p:cNvSpPr/>
          <p:nvPr/>
        </p:nvSpPr>
        <p:spPr>
          <a:xfrm>
            <a:off x="1502280" y="47628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Кожна лајшманиј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34C9-924F-418D-9D1F-AC6B8B312C9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411200" y="47628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Дифузна кутана лајшманиј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5" descr="difuzna kutana"/>
          <p:cNvPicPr/>
          <p:nvPr/>
        </p:nvPicPr>
        <p:blipFill>
          <a:blip r:embed="rId1"/>
          <a:srcRect l="18101" t="26165" r="13388" b="9031"/>
          <a:stretch/>
        </p:blipFill>
        <p:spPr>
          <a:xfrm>
            <a:off x="1403280" y="1268280"/>
            <a:ext cx="6553440" cy="466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7CB4-E0B6-4730-8834-F8B7E69A591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258920" y="3333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Мукозална лајшманија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907920"/>
            <a:ext cx="79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арактерише се опсежним, деструктивним променама на слузници носа, уста, фаринкса или ларинкса (локални деформитети)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Picture 6" descr="lei20"/>
          <p:cNvPicPr/>
          <p:nvPr/>
        </p:nvPicPr>
        <p:blipFill>
          <a:blip r:embed="rId1"/>
          <a:stretch/>
        </p:blipFill>
        <p:spPr>
          <a:xfrm>
            <a:off x="4427640" y="1916280"/>
            <a:ext cx="3240000" cy="2187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abb05_s"/>
          <p:cNvPicPr/>
          <p:nvPr/>
        </p:nvPicPr>
        <p:blipFill>
          <a:blip r:embed="rId2"/>
          <a:stretch/>
        </p:blipFill>
        <p:spPr>
          <a:xfrm>
            <a:off x="1187280" y="2276640"/>
            <a:ext cx="2651400" cy="4032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img043"/>
          <p:cNvPicPr/>
          <p:nvPr/>
        </p:nvPicPr>
        <p:blipFill>
          <a:blip r:embed="rId3"/>
          <a:srcRect l="16926" t="27953" r="6301" b="5906"/>
          <a:stretch/>
        </p:blipFill>
        <p:spPr>
          <a:xfrm>
            <a:off x="4427640" y="4365720"/>
            <a:ext cx="324000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DCAB-7798-4582-BA9A-1A6E4E36EE1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1688040" y="76392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1692360" y="2133720"/>
            <a:ext cx="475128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ијагноза се поставља на основу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Клиничке слик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Епидемиолошких података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Лабораторијских анали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70E1-AD74-443A-91AA-91E8EF7AD85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1434600" y="534240"/>
            <a:ext cx="40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Лабораторијска дијагнос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1343520" y="14122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Хематолош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1213920" y="3789720"/>
            <a:ext cx="4446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ипоалбуминемиј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ипергамаглобулинемиј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вишена активност трансаминаз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1228320" y="2059920"/>
            <a:ext cx="70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анцитопенија (анемија, леукопенија, тромбоцитопенија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1332360" y="328392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Биохемијс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0574-D487-4C46-9581-64F001C147B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476360" y="98100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Животни циклус плазмодију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684360" y="2133720"/>
            <a:ext cx="475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  Асексуални циклус ("шизогонија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ре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гзо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I Сексуални циклус ("спорогонија"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7" descr="cyclustext"/>
          <p:cNvPicPr/>
          <p:nvPr/>
        </p:nvPicPr>
        <p:blipFill>
          <a:blip r:embed="rId1"/>
          <a:stretch/>
        </p:blipFill>
        <p:spPr>
          <a:xfrm>
            <a:off x="5508720" y="1557360"/>
            <a:ext cx="34718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03CB-3751-4776-8212-D5B1979BE9E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1332000" y="1197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Етиолошка 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187280" y="2060640"/>
            <a:ext cx="7488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дентификација узрочника у ткиву, најчешће костној сржи (микроскопски преглед пунктат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золација узрочника из крви, костне сржи и других ткива (култивисање на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NNN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подлогам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оказивање специфичних антитела на лајшманиј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(IF, ELISA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оказивање паразитн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DNK (PCR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D199-A1D3-4ECE-B8FC-F284B20C81C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Picture 4" descr="amastigot - koza"/>
          <p:cNvPicPr/>
          <p:nvPr/>
        </p:nvPicPr>
        <p:blipFill>
          <a:blip r:embed="rId1"/>
          <a:srcRect l="16926" t="29520" r="19300" b="5906"/>
          <a:stretch/>
        </p:blipFill>
        <p:spPr>
          <a:xfrm>
            <a:off x="1763640" y="1700280"/>
            <a:ext cx="5400720" cy="41022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1589760" y="90792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Амастигот у биоптату кож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5C4A-27B0-49B9-BC23-557FA39AC27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1695240" y="50364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1163880" y="1412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Антипаразитарна терапија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332000" y="1916280"/>
            <a:ext cx="3095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нтимонски препара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роматични диамидин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мфотерицин 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1000440" y="364428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Симптоматско-супституциона терапија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1258920" y="4221000"/>
            <a:ext cx="678816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ечење анемије (трансфузије крви, гвожђе, витамин Б12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ечење хипопротеинемије (20% албумини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висококалоријска исхран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2" name="Picture 9" descr="ico_pills"/>
          <p:cNvPicPr/>
          <p:nvPr/>
        </p:nvPicPr>
        <p:blipFill>
          <a:blip r:embed="rId1"/>
          <a:stretch/>
        </p:blipFill>
        <p:spPr>
          <a:xfrm>
            <a:off x="5867280" y="620640"/>
            <a:ext cx="241776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E57F-AD38-46ED-9059-9DD659DC756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861840" y="1844640"/>
            <a:ext cx="828216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ИНФЕКЦИЈЕ И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ЗАЗВАНЕ РИКЕЦИЈАМА (RIKECIOZ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28DD-BD78-4928-A21F-BBDFD29F777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1142280" y="126756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ПЕГАВИ ТИФУС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(TYPHUS EXANTHEMATICU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1187280" y="2133720"/>
            <a:ext cx="763272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егави тифус је акутна, неконтагиозна, инфективна болест која се клинички карактерише општим симптомима инфекције, симптомима енцефалитис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(тифозним стањем) и макулозном осп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зрочник болести је </a:t>
            </a:r>
            <a:r>
              <a:rPr b="0" i="1" lang="sr-Latn-CS" sz="1800" spc="-1" strike="noStrike">
                <a:solidFill>
                  <a:srgbClr val="ffff99"/>
                </a:solidFill>
                <a:latin typeface="Tahoma"/>
              </a:rPr>
              <a:t>Rickettsia prowazeki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ја се у сасушеном измету ваши може одржати више месец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3767-B043-41D3-A7B8-C17CDF05AF2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1042920" y="765000"/>
            <a:ext cx="79218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звор инфекције је болесник који болује од пегавца или Брил-Цинсерове болести (заразан је последња 2 до 3 дана инкубације и све време трајања фебрилности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 оболелог на здравог човека болест преноси бала вашк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(Pediculus humanis corporis)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која се зарази сишући крв болес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Picture 3" descr="Piojo_de_la_ropa_Pediculus_humanos_corporis"/>
          <p:cNvPicPr/>
          <p:nvPr/>
        </p:nvPicPr>
        <p:blipFill>
          <a:blip r:embed="rId1"/>
          <a:stretch/>
        </p:blipFill>
        <p:spPr>
          <a:xfrm>
            <a:off x="1116000" y="3357720"/>
            <a:ext cx="3527280" cy="3201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foto_025"/>
          <p:cNvPicPr/>
          <p:nvPr/>
        </p:nvPicPr>
        <p:blipFill>
          <a:blip r:embed="rId2"/>
          <a:stretch/>
        </p:blipFill>
        <p:spPr>
          <a:xfrm>
            <a:off x="5508720" y="3357720"/>
            <a:ext cx="2131920" cy="30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1A8E-ECCD-43CB-B5C0-6E0A83D1A70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1258920" y="1773360"/>
            <a:ext cx="727236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8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рикеција се настањује и размножава у епителним ћелијама црева, одакле столицом доспева у спољну средин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8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човек се инфицира утрљавањем измета у кожу (чешањем), ређе утрљавањем у коњунктив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8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олест се јавља епидемично, у животним ситуацијама лоших санитарних услова када је вашљив велики број људ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194F-BC6E-4522-A6A5-C4D27AF0F56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Text Box 2"/>
          <p:cNvSpPr/>
          <p:nvPr/>
        </p:nvSpPr>
        <p:spPr>
          <a:xfrm>
            <a:off x="1042920" y="1268280"/>
            <a:ext cx="79218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901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икеције посебан афинитет показују к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ендотелним ћелијам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малих крвних судова (артериоле, капилари, венуле), где се размножавају, разарају ендотелне ћелије и доспевају у крвоток (рикецијем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901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оком рикецијемије настаје дисеминација узрочника до различитих ткива и органа у којима изазивају васкулитис; промене су најизраженије у кожи, мозгу, попречно-пругастој мускулатури, тестисима, срцу и бубрез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901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ко инфицираних крвних судова ствара се запаљенски инфилтрат (гранулом) састваљен од лимфоцита и моноцита (артериолитис грануломатоса, Френкелови чворићи); ови грануломи сужавају лумен малих крвних судова, што доводи до успоравања крвотока и појаве тромбо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A8C6-D007-4470-AF75-24761DFA697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258920" y="1125360"/>
            <a:ext cx="720072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 износи 1 до 2 недеље (просечно 12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ротиче кроз три стадијум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вазивни стадију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гзантематични (тифозни стадијум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конвалесцентни стадиј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1406-BC38-4F18-A808-7B0AACCAB97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2"/>
          <p:cNvSpPr/>
          <p:nvPr/>
        </p:nvSpPr>
        <p:spPr>
          <a:xfrm>
            <a:off x="1116000" y="1268280"/>
            <a:ext cx="777708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. Инвазивни стадиј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очиње нагло са оптим симптомима инфекције: високом температуром, дрхтавицом, главобољом, мијалгијама и артралгија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изикални налаз: лице је црвено и подбуло (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caput rubrum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), коњунктивална ињекција, језик је сув, обложен прљавосивим наслагама; на плућима бронхитични шушњев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ј стадијум траје 5 до 7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59FA-F8A6-4297-B5E1-09A85BADA23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7" descr="malariacycleBig"/>
          <p:cNvPicPr/>
          <p:nvPr/>
        </p:nvPicPr>
        <p:blipFill>
          <a:blip r:embed="rId1"/>
          <a:stretch/>
        </p:blipFill>
        <p:spPr>
          <a:xfrm>
            <a:off x="826920" y="836640"/>
            <a:ext cx="7921800" cy="52848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918360" y="26028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Животни циклус плазмодију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3419-48AE-46A9-BE13-349977F108F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1116000" y="1268280"/>
            <a:ext cx="7850160" cy="54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б. Егзантематични стадијум (тифозни стадију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арактерише се појавом оспе, која избија у једном маху и која је најизраженија на флексорним странама руку и бочним деловима тела (оспа је макулозна, некада делимично петехијална, тј. никада све макуле не прелазе у петехиј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оком овог стадијума јављају се симптоми од стране CNS-а: пацијент је узнемирен, дезоријентисан, често агресиван са халуцинацијама или је миран, апатичан, у прострацији и ступору (тифозно стањ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огу бити присутни и знаци пнеумоније, миокардитиса, нефритис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пленомегалија је најизраженија почетком овог стадијума, касније нестај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ј стадијум траје 7 до 8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6F67-DD77-49C7-B039-3FF36225882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187280" y="1197000"/>
            <a:ext cx="76327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Реконвалесцентни стадиј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случају оздрављења опоравак је брз и без последи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омплика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стају услед тромбозе крвних судова (у било ком органу и на акрима у смислу гангрене) и бактеријске суперинфекциј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9DFA-8BF6-444C-89FF-45355337B9C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1116000" y="1197000"/>
            <a:ext cx="6480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а сли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пидемиолошки подаци (вашљивост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бораторијске анализе (умерена леукоцитоз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DEE8-5953-40EC-8C03-6CEB5F59BCE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1042920" y="1197000"/>
            <a:ext cx="763272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Серолош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Weil-Felix-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 реакција аглутинације (proteus OX 19) – реакција је позитивна крајем прве и почетком друге недеље болести: дијагностички је значајан титар већи од 1:160, али је важнији четвороструки пораст титра антитела у два узорка серу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реакција везивања комплемент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RVK) са специфичним рикецијским антигеном, касније постаје позитивна, око 10 дана болести, а за дијагностичку динамику титра треба чекати бар три недељ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индиректна имунофлуоресценциј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IIF) и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имуноензимски тест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ELISA) за откривање антитела на рикецију у IgM и IgG клас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A329-2719-4DC6-9F2D-A587938F9CD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58920" y="1052640"/>
            <a:ext cx="7489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етрациклини (доксициклин 2x100mg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лорамфеникол (30mg/kg у 4 једнаке доз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имптоматска терапи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рофилак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рба против вашљивости (депедикулац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стоји вакцина од атенуиране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R. prowazeki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BF02-8527-4E3E-A55C-8E4CF64BAC9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1455120" y="89280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BRIL – ZINSSEROVA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sr-CS" sz="2000" spc="-1" strike="noStrike">
                <a:solidFill>
                  <a:srgbClr val="ffff00"/>
                </a:solidFill>
                <a:latin typeface="Tahoma"/>
              </a:rPr>
              <a:t>БОЛ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1258920" y="2205000"/>
            <a:ext cx="7489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рил-Цинсерова болест је касни рецидив пегавца, а јавља се више година након прележане боле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76FE-5BBE-4368-926C-A287C8FE175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1187280" y="1052640"/>
            <a:ext cx="75614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 и 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8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се јавља спорадично у свим крајевима света у којима је накада било пегавца или га још увек и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8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ник с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Brill-Zinsser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во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болешћу може бити извор инфекције пегавца уколико истовремено постоји вашљиво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F9DB-726E-48AE-AE30-C54E06CA25A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Text Box 2"/>
          <p:cNvSpPr/>
          <p:nvPr/>
        </p:nvSpPr>
        <p:spPr>
          <a:xfrm>
            <a:off x="1116000" y="1197000"/>
            <a:ext cx="763272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кон прележаног пегавца, рикеције се задржавају у организму у латентном стању, а могу се активирати уколико ослабе имунске снаге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ротиче као лакши облик пегавца (траје 7-11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02BF-6587-468F-816A-11000C3FD39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1187280" y="1197000"/>
            <a:ext cx="756144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ст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VK (рано постаје позитивна - око 5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Brill-Zinsser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болест се лечи као и пегавац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792F-B37F-4A2C-9E5E-D7CFBC54EA1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3132000" y="278136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Comic Sans MS"/>
              </a:rPr>
              <a:t>Хвала на па</a:t>
            </a:r>
            <a:r>
              <a:rPr b="0" i="1" lang="sr-Latn-CS" sz="3600" spc="-1" strike="noStrike">
                <a:solidFill>
                  <a:srgbClr val="ffff00"/>
                </a:solidFill>
                <a:latin typeface="Comic Sans MS"/>
              </a:rPr>
              <a:t>жњ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F7D1-B909-4020-827B-4E4EEBE568F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4" descr="F0000-012-001"/>
          <p:cNvPicPr/>
          <p:nvPr/>
        </p:nvPicPr>
        <p:blipFill>
          <a:blip r:embed="rId1"/>
          <a:srcRect l="0" t="0" r="0" b="6943"/>
          <a:stretch/>
        </p:blipFill>
        <p:spPr>
          <a:xfrm>
            <a:off x="2700360" y="189000"/>
            <a:ext cx="6264360" cy="61545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653760" y="62064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Животни циклус </a:t>
            </a:r>
            <a:br>
              <a:rPr sz="1800"/>
            </a:b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лазмодију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90CB-450A-4644-AFAF-6DB2D407D48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5" descr="oocysts"/>
          <p:cNvPicPr/>
          <p:nvPr/>
        </p:nvPicPr>
        <p:blipFill>
          <a:blip r:embed="rId1"/>
          <a:srcRect l="0" t="6140" r="0" b="39916"/>
          <a:stretch/>
        </p:blipFill>
        <p:spPr>
          <a:xfrm>
            <a:off x="2627280" y="3591000"/>
            <a:ext cx="4176720" cy="2663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oocysts2"/>
          <p:cNvPicPr/>
          <p:nvPr/>
        </p:nvPicPr>
        <p:blipFill>
          <a:blip r:embed="rId2"/>
          <a:srcRect l="0" t="0" r="0" b="36183"/>
          <a:stretch/>
        </p:blipFill>
        <p:spPr>
          <a:xfrm>
            <a:off x="3348000" y="1052640"/>
            <a:ext cx="5400720" cy="2220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oocysts3"/>
          <p:cNvPicPr/>
          <p:nvPr/>
        </p:nvPicPr>
        <p:blipFill>
          <a:blip r:embed="rId3"/>
          <a:srcRect l="0" t="0" r="0" b="21856"/>
          <a:stretch/>
        </p:blipFill>
        <p:spPr>
          <a:xfrm>
            <a:off x="684360" y="1052640"/>
            <a:ext cx="2303280" cy="2220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8"/>
          <p:cNvSpPr/>
          <p:nvPr/>
        </p:nvSpPr>
        <p:spPr>
          <a:xfrm>
            <a:off x="1009440" y="4046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Ooc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Ivana Rakovic</cp:lastModifiedBy>
  <dcterms:modified xsi:type="dcterms:W3CDTF">2024-09-05T22:24:14Z</dcterms:modified>
  <cp:revision>119</cp:revision>
  <dc:subject/>
  <dc:title>Slide 1</dc:title>
</cp:coreProperties>
</file>